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9A13-28F0-47A9-B3E5-6815A22B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D902-5036-4C9E-B2B4-F4E03EB9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F00-EEFA-4454-BB34-72F0C61B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6224-DCC9-4FC3-9026-D14E3350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BC4-9138-4286-8F8F-6F07D0B0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489-4AD1-4380-9A16-326ED83A6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A749-14C3-42EC-81E7-95B3FCEA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AE8-D8FA-4B40-9C5C-24BBCC21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F90-13C9-410F-BA74-415A60AE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CB95-7237-4097-AECA-399A63CA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9EA-A35F-44A3-A0CC-6568E4FE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50B-8AB7-4794-BA1F-8072C343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8C3D-E146-4037-90A1-4EE0D4A5B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41300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79640" y="5516640"/>
            <a:ext cx="6626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 Rounded MT Bold"/>
              </a:rPr>
              <a:t>What is oil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6909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76360" y="2205000"/>
            <a:ext cx="61214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Oil is a liquid composed mostly of hydrogen and carbon. Its usually found underground in soil but can also be found above ground in oil seeps and tar pi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8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37280" y="1341360"/>
            <a:ext cx="3906720" cy="3959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1125360"/>
            <a:ext cx="424836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ff"/>
                </a:solidFill>
                <a:latin typeface="Arial Rounded MT Bold"/>
              </a:rPr>
              <a:t>The world is mostly covered by sea. The sea has lots animals and plants.</a:t>
            </a:r>
            <a:r>
              <a:rPr b="0" lang="en-US" sz="2500" spc="-1" strike="noStrike">
                <a:solidFill>
                  <a:srgbClr val="6600ff"/>
                </a:solidFill>
                <a:latin typeface="Arial Rounded MT Bold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ff"/>
                </a:solidFill>
                <a:latin typeface="Arial Rounded MT Bold"/>
              </a:rPr>
              <a:t>These animals and plants called plankton get energy to live from sunlight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600ff"/>
                </a:solidFill>
                <a:latin typeface="Arial Rounded MT Bold"/>
              </a:rPr>
              <a:t>When they die they sink to the bottom of the sea. The ones that died many years ago are the source of today's oil and g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lankto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476280"/>
            <a:ext cx="3311640" cy="1800360"/>
          </a:xfrm>
          <a:prstGeom prst="wedgeEllipseCallout">
            <a:avLst>
              <a:gd name="adj1" fmla="val 51819"/>
              <a:gd name="adj2" fmla="val 6199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500" spc="-1" strike="noStrike">
                <a:solidFill>
                  <a:srgbClr val="6600ff"/>
                </a:solidFill>
                <a:latin typeface="Arial"/>
              </a:rPr>
              <a:t>If you are wondering what plankton is 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56360" y="4869000"/>
            <a:ext cx="2987640" cy="1439640"/>
          </a:xfrm>
          <a:prstGeom prst="wedgeRoundRectCallout">
            <a:avLst>
              <a:gd name="adj1" fmla="val -48513"/>
              <a:gd name="adj2" fmla="val -85282"/>
              <a:gd name="adj3" fmla="val 16667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66ff33"/>
                </a:solidFill>
                <a:latin typeface="Arial"/>
              </a:rPr>
              <a:t>Plankton is a little fish that swims around in the sea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5013360"/>
            <a:ext cx="2808360" cy="1368360"/>
          </a:xfrm>
          <a:prstGeom prst="cloudCallout">
            <a:avLst>
              <a:gd name="adj1" fmla="val 59157"/>
              <a:gd name="adj2" fmla="val -9547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9966"/>
                </a:solidFill>
                <a:latin typeface="Arial"/>
              </a:rPr>
              <a:t>It looks like this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659640" y="620640"/>
            <a:ext cx="2089080" cy="1330560"/>
          </a:xfrm>
          <a:prstGeom prst="wedgeRectCallout">
            <a:avLst>
              <a:gd name="adj1" fmla="val -78722"/>
              <a:gd name="adj2" fmla="val 7971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ute aye </a:t>
            </a:r>
            <a:r>
              <a:rPr b="0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3457440" cy="3384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67280" y="1557360"/>
            <a:ext cx="468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The sun's energy was stored in the bodies of the dead creatures and plants. The dead bodies started to dec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67280" y="711360"/>
            <a:ext cx="4989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355680"/>
            <a:ext cx="8209080" cy="6502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84720" y="2924280"/>
            <a:ext cx="4680000" cy="2160360"/>
          </a:xfrm>
          <a:custGeom>
            <a:avLst/>
            <a:gdLst>
              <a:gd name="textAreaLeft" fmla="*/ 0 w 4680000"/>
              <a:gd name="textAreaRight" fmla="*/ 4680360 w 4680000"/>
              <a:gd name="textAreaTop" fmla="*/ 280080 h 2160360"/>
              <a:gd name="textAreaBottom" fmla="*/ 188028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We need oil to kee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the world going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0:44:11Z</dcterms:created>
  <dc:creator>VercoeA</dc:creator>
  <dc:description/>
  <dc:language>en-US</dc:language>
  <cp:lastModifiedBy>VercoeA</cp:lastModifiedBy>
  <dcterms:modified xsi:type="dcterms:W3CDTF">2008-10-29T23:52:06Z</dcterms:modified>
  <cp:revision>8</cp:revision>
  <dc:subject/>
  <dc:title>Slide 1</dc:title>
</cp:coreProperties>
</file>